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1F5-545F-46B1-9191-2752EFC3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4442-A8C2-4DF3-AFD6-DA1936BD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706-9162-4F3A-88CB-7030F66D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E5DE-3700-409C-8CA1-07A26597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A97-7700-4B7C-9AF9-C683FDB0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4E6-B87C-4C99-97FB-3BB46AD2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0B5-A9C5-43F7-881B-A699F90F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4C5-4302-4580-82A5-AD5F940C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EF10-261F-4C3B-8E72-CC1F01E3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995-70B6-4A66-92A4-A898F745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2E4-0D34-4E1A-98A3-EBB35FC2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BA7-EBBC-4EDE-BF65-568445CE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97B8-BCA4-483C-B004-EE7653140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chranelibrary.com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3. недељ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</a:rPr>
              <a:t>Веома је значајно за израду ра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За сваку комбинацију кључних речи навести колико је студија пронађено, а колико је затим укључено односно искључено на основу критеријума за укључивање и искључив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За сваку пронађену па искључену студију навести конкретан разлог искључив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итеријуми за укључивање и искључивање студија нису исти као и критеријуми за оцену валидности и значајност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258920" y="2523240"/>
            <a:ext cx="63291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НАЛАЖЕЊЕ  ДОКА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ИЗВОРИ ИНФОРМАЦИЈ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chrane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chrane database of systematic re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of Abstracts of Reviews of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P Journal Club on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-Based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LINE, EM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ahoo, Lycos, Google, 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Кохранова библиот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360"/>
            <a:ext cx="8229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држи систематске прегледне чланке који су већ обухватили и анализирали претходно публиковане студ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ви чланци су урађени по одговарајућој методологији, и може им се веров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ширени апстракти су доступни бесплат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век прво тражимо одговор на наше питање у овој бази подата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cochranelibrary.com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P Journal Club on Disk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-Based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ве базе података такође садрже систематске прегледе највишег квалитета, као и Кохранова библиотека, али бесплатно нису доступни ни апстрак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ТРАЖИВАЊЕ МЕДЛ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АЈ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истити тезаурус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специјални речник базе података, по коме су појмови индексира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Користити ограничавајуће факторе, ка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t) – publication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y) – publication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рста студ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Kористити и природне реч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да не налазимо адекватне студије помоћу тезаур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истит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ding”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јединачни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рм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Тактика претраживањ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ваку коришћену комбинацију речи забележити, као и пронађене студ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ристити више израза за исти појам, нпр. народни и латински наз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ристити опцију “повезани радови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к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корисне кључне речи за претраживање МЕДЛ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АЈ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 студије о третманим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nical trial (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ized controlled trial (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 therapy (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apeutic use (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 студије о прогноз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cohort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mort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-up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ality (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nosis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к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корисне кључне речи за претраживање МЕДЛ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АЈ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 студије етиологиј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cohort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ds and ratio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ve and risk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and control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 студије о дијагноз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nosis (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sensitivity and specif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nostic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itivity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ity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5-08-02T12:28:58Z</dcterms:modified>
  <cp:revision>62</cp:revision>
  <dc:subject/>
  <dc:title>Slide 1</dc:title>
</cp:coreProperties>
</file>